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9C2-FA02-4B59-B742-A1BD758A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63E-16C5-4DAE-B7CD-E6298528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767-9BB9-403D-B841-D8DBE378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33E-C7B7-42FC-97E6-3A4E1E41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00DA-3477-4D6D-8C7F-2CEC9764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4A2B-EE1C-43E6-BDE6-2322CDE4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FF58-7CC7-4AA3-B59D-E1947EE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9078-A787-48BB-8CAC-1B4F05A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3173-79F5-4598-9222-13FC8A04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5E4D-3F60-4495-9E81-A8232492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7A7-71ED-408E-94AE-5971511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3B9-99A2-451D-908E-474F32D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F596-6EFB-4E26-9EC3-818699C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9208-E365-450A-8C9B-63C6966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2E97-72C8-45A9-8B66-4318B42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E92A-3BE5-4DCA-85DE-3A563E80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165-5E5A-44EE-BC6D-B35E43E3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895-4B2C-4EBC-B0F0-38E7952E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FD6-F186-4266-8C38-5E2D87CB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ACA-7824-448B-A7E9-562912D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716-6D93-40D2-8F9C-3653954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E2A-2CCA-44E5-A099-0BDE021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505-67C3-47DC-A891-2BD69771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056-EBE0-4A7C-A2E4-1A865B2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534-1ECC-40E9-BED0-FA038ECA3B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EB3F-F5BF-41A7-B926-C5690CDAE7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amson -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15:1 - 16: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8-1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Death -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21-31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seized him, blinded him, took him to Gaza, imprisoned  and abused  him  v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passes; his hair began to grow  v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aken to a great festival for their god Dagon  v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re were 3,000 men and women on the roof alon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into this huge assembly to be used for sport  v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Death -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26-31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ook revenge on the Philistines  v26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brought the building down upon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more Philistines in this assembly than in his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aken back to Zorah for bu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for 20 years  v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– Review, Review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under oppress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birth foretold by an an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live under the Nazarite v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’s offering to the angel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born - the spirit of the Lord moved within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esired a wife from among the Phili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– Review, Review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killed a lion and later retrieved honey from the carcass – source of a ri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rriage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30 companions and his riddle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inally gave the answer to his wife resulting in him losing a w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ed 30 Philistines to pay w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fe was given to his “best ma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47242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46483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105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n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4495680"/>
            <a:ext cx="2362320" cy="60984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5181480"/>
            <a:ext cx="2286000" cy="15264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Denied His Wife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5:1-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ried to get his wife back  v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anger taken out on the Philistines  v3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used 300 foxes with flames tied to their tails to burn the harvest c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blamed his wife and her father  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member the threat to her involving the riddl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very angry; smote the Philistines  with a great slaughter  v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Vengeance on the Philistines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5:9-17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gathered to war against the Israelites  v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blamed Samson  v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: “I did to them like they did to 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aken to the Philistin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d and killed 1,000 men with the jawbone of an donkey  v14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y whose power did he kill these men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’s Distress From Thirst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5:18-2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was very thirsty  v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provided the water  v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judged Israel for 20 years  v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is may be when Samson was raised to a judge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at Gaza -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1-3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visited a harlot in Gaza  v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mbush planned  v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scaped from Gaza  v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ied a gate of the city and the posts to a hill near Heb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to the valley of So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 Delilah (a Philist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son and Delilah -</a:t>
            </a:r>
            <a:br>
              <a:rPr sz="44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6:4-2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loved Delilah v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stines conspired with Delilah to find his source of strength  v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lah betrayed Samson  v6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seemed to play a game with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unsuccessful atte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urth attempt - he told her about his 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hair was cut; his strength left him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Frank D Vines</cp:lastModifiedBy>
  <dcterms:modified xsi:type="dcterms:W3CDTF">2005-02-28T15:34:54Z</dcterms:modified>
  <cp:revision>23</cp:revision>
  <dc:subject/>
  <dc:title>In The Days of the Judges</dc:title>
</cp:coreProperties>
</file>